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8F5-6DE3-45B2-BDFF-EA2ED20C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BF7-EF25-44B6-A002-66344602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C6E-9696-48FA-B170-AE3BFC07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389-51D7-4DC9-9334-2CB346BA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FBAD-0C07-42E6-AD2D-0A9D7ABD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3066-98E0-4F20-8917-F868F685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6BE4-1E75-4D41-BD46-8CE64A08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8114-9C40-4207-B907-E946F712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1AAD-80C3-4F2F-8DAE-BA6C0886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FB95-EF7A-4F7F-BDFD-683AA633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DEAF-DFC6-4F91-8524-64D2599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DE7-2715-44EB-87BD-D6976965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DE89-6C9C-4227-B4DC-7CD3D07C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BEEB-F1D9-43AD-84A0-75C56E2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0A16-73C9-4A7A-9A49-5BF6492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7D1B-6C91-4762-99AD-289C4856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0957-2C63-424B-AD78-81D39099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179-142C-4E1D-8F09-A75CFFD8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271-7154-4E66-8104-E8B03AC1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65D-DEE8-48E7-B439-CC430C02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E8D-E682-451F-8792-C448D9DA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B50-D341-43D7-8D79-8E84008E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B6F-201B-406F-9562-2B06D846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75D-B7CD-4000-A8E4-5B0903DD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C04B-3B71-4433-824D-50E5ACF29F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4CCE-FF82-4D64-A711-5E91CFE7A0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00000" y="907920"/>
            <a:ext cx="547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ие питомцы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40000" cy="2023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61 из 189825"/>
          <p:cNvPicPr/>
          <p:nvPr/>
        </p:nvPicPr>
        <p:blipFill>
          <a:blip r:embed="rId2"/>
          <a:stretch/>
        </p:blipFill>
        <p:spPr>
          <a:xfrm>
            <a:off x="4067280" y="2781360"/>
            <a:ext cx="3409920" cy="2557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Картинка 87 из 189825"/>
          <p:cNvPicPr/>
          <p:nvPr/>
        </p:nvPicPr>
        <p:blipFill>
          <a:blip r:embed="rId3"/>
          <a:stretch/>
        </p:blipFill>
        <p:spPr>
          <a:xfrm>
            <a:off x="900000" y="4365720"/>
            <a:ext cx="28735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Собак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196" name="" descr="Картинка 37 из 189825"/>
          <p:cNvPicPr/>
          <p:nvPr/>
        </p:nvPicPr>
        <p:blipFill>
          <a:blip r:embed="rId1"/>
          <a:stretch/>
        </p:blipFill>
        <p:spPr>
          <a:xfrm>
            <a:off x="250920" y="765000"/>
            <a:ext cx="2495520" cy="374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3935520" cy="2952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Картинка 72 из 189825"/>
          <p:cNvPicPr/>
          <p:nvPr/>
        </p:nvPicPr>
        <p:blipFill>
          <a:blip r:embed="rId3"/>
          <a:stretch/>
        </p:blipFill>
        <p:spPr>
          <a:xfrm>
            <a:off x="5003640" y="907920"/>
            <a:ext cx="2387880" cy="358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627280" y="119700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меня учёный пёс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ёс по имени Барбос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 чём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не пра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омко лает о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В-ГАВ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Кошк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665440" cy="1500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Картинка 31 из 189825"/>
          <p:cNvPicPr/>
          <p:nvPr/>
        </p:nvPicPr>
        <p:blipFill>
          <a:blip r:embed="rId2"/>
          <a:stretch/>
        </p:blipFill>
        <p:spPr>
          <a:xfrm>
            <a:off x="3203640" y="1484280"/>
            <a:ext cx="3987720" cy="2989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53 из 189825"/>
          <p:cNvPicPr/>
          <p:nvPr/>
        </p:nvPicPr>
        <p:blipFill>
          <a:blip r:embed="rId3"/>
          <a:stretch/>
        </p:blipFill>
        <p:spPr>
          <a:xfrm>
            <a:off x="395280" y="314172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211280" y="486864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 усатый, как разбой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рыгнул подокон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угал соседских ку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урлыкает: МУР-МУР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Попуга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744720" cy="299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Картинка 74 из 189825"/>
          <p:cNvPicPr/>
          <p:nvPr/>
        </p:nvPicPr>
        <p:blipFill>
          <a:blip r:embed="rId2"/>
          <a:stretch/>
        </p:blipFill>
        <p:spPr>
          <a:xfrm>
            <a:off x="4427640" y="1125360"/>
            <a:ext cx="2543040" cy="381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189240" cy="2392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52720" y="5300280"/>
            <a:ext cx="367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кажу вам за обедо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 разных, умных слов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ведь быть под пледом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и вкусен мамин плов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Рыбк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1" name="" descr="Картинка 11 из 166951"/>
          <p:cNvPicPr/>
          <p:nvPr/>
        </p:nvPicPr>
        <p:blipFill>
          <a:blip r:embed="rId1"/>
          <a:stretch/>
        </p:blipFill>
        <p:spPr>
          <a:xfrm>
            <a:off x="468360" y="1268280"/>
            <a:ext cx="2760480" cy="1756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артинка 12 из 166951"/>
          <p:cNvPicPr/>
          <p:nvPr/>
        </p:nvPicPr>
        <p:blipFill>
          <a:blip r:embed="rId2"/>
          <a:stretch/>
        </p:blipFill>
        <p:spPr>
          <a:xfrm>
            <a:off x="3348000" y="1413000"/>
            <a:ext cx="3909960" cy="2423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Картинка 39 из 166951"/>
          <p:cNvPicPr/>
          <p:nvPr/>
        </p:nvPicPr>
        <p:blipFill>
          <a:blip r:embed="rId3"/>
          <a:stretch/>
        </p:blipFill>
        <p:spPr>
          <a:xfrm>
            <a:off x="611280" y="3573360"/>
            <a:ext cx="3981240" cy="29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789440" y="4221000"/>
            <a:ext cx="287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кам в банку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плют манк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ки золотом гор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е из манки спозаранку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ят кашу и твердя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и я от каши то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же буду золот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5:56:54Z</dcterms:created>
  <dc:creator>студент</dc:creator>
  <dc:description/>
  <dc:language>en-US</dc:language>
  <cp:lastModifiedBy>студент</cp:lastModifiedBy>
  <dcterms:modified xsi:type="dcterms:W3CDTF">2012-04-20T06:33:05Z</dcterms:modified>
  <cp:revision>2</cp:revision>
  <dc:subject/>
  <dc:title>Слайд 1</dc:title>
</cp:coreProperties>
</file>